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A138-AA0E-4CED-8709-36F107D3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E396-17EE-4CD7-93E2-0B7BA34D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8F0A-5760-4428-B90E-7DC386FA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FB35-ECCA-4E32-BF15-DA0BB40C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83F5-5B35-4B5C-B633-244D9695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2016-8D9C-4374-BE67-83957CC8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22BF-39C2-4297-9DD8-1BCEE301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8427-AC00-4295-9047-8F1F3F69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23C2-26B1-4B3F-8F9B-B5982C38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CD31-3E01-48CC-82BB-D90D6895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1A39-28A7-46C2-AECB-F57BD23A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142A-172A-4AC8-8207-411C6912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604A-821B-4416-9057-A02BCAD1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020A-8B62-4609-A159-31BF171D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D0F0-39F9-45AD-9078-5E993A11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9E1D-CCB7-4E39-9E6E-CEF0219C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457C-0A28-44CD-874B-04CC2EC8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D4D5-65D6-4039-91D1-B07142E5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6390-2474-47C0-8B7D-CB3EBE93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1292-8E3C-44E0-8CDC-75ADE735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D6BB-F9E2-4A1A-B625-1F445DF5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FF2F-D10E-494B-924A-8349E1C8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DF07-AEA2-4DB0-901B-793EAC9A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D2B-2796-4B61-B7D7-4788C34D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128B-A79A-4F06-BB77-1A0A07D7C08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FE6B-5F36-423C-8FD8-5583C06CEDE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Ordeal of Reconstruction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. 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65-187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u Klux Kla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cks began to hold major offices in govern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u Klux Klan founded in TN, 1866, by white southerners angered by the success of black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ed through intimid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utal murd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952880" y="4800600"/>
            <a:ext cx="32194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ohnson’s Impeachmen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enure of Office Act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equired president to obtain consent of congress before he removes cabinet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son dismisses Secretary of War Edwin Stan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use of Representatives votes for his impeach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8320" y="4849920"/>
            <a:ext cx="302868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ohnson’s Impeachmen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use of Representatives prosecuted Johnson, Senate served as the cour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hnson argued that the Tenure of Office Act was unconstitut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ate voted president not guilty by margin of one vo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dical Republicans did not get necessary 2/3 majority to remove presid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ar of abusing checks &amp; balances and consideration of Johnson’s replacement (Ben Wade) caused senate vot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ward's Folly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retary of State William Seward signed a treaty w/ Russia that transferred Alaska to the United States for $7.2 million (186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supported by American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ch in resources &amp; didn’t want to anger Russ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29000" y="4867200"/>
            <a:ext cx="29527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ritage of Reconstructio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therners felt it was a more painful process than the war it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ublican party extinguished itself in the south for nearly 100 yea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90920" y="4038480"/>
            <a:ext cx="35049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blems of Pe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 Johnson pardoned Confederate leaders, 186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edom” for blacks- uneven in Confedera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urch became focus of black community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opportunity for educ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eedmen’s Bureau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ress created the Freedmen’s Bureau b/c freedmen were unskilled, uneducated &amp; w/o money (1865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d by Oliver How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fare Agency”- provided clothes, food, medical care and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atest accomplishment: teaching blacks to rea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ired in 1872 b/c Johnson despised i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238880" y="457200"/>
            <a:ext cx="173376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sidential Reconstructio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hnson- southerner, Democra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0 Percent Reconstruction Plan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inco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te could be readmitted to union when 10% of its voters (1860 election) took an oath of allegi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de-Davis Bil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1864)- required 50% of states’ voters to take o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ncoln refused to sig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lit Republican part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jority agreed w/ Lincol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nority felt south should suffer greatl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sidential Reconstructio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son’s Pl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led for special state conven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eal decrees of sec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udiate all confederate deb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fy 1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mend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72200" y="3657600"/>
            <a:ext cx="2403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lack Cod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imed to ensure a subservient &amp; stable labor for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ulated affairs of emancipated sla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recropping- plantation owners rented out pieces of their land to blac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st of rent was hi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und by contract to work until debts repai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sh penal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cked idea of free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posed by Republica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477120" y="4629240"/>
            <a:ext cx="22143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gressional Reconstructio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ember 1865- Southern states again represent themselves in con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uth had more control in congress than bef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aves now counted as a whole pers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hnson announces on December 6, 1865 that southern states had met conditions &amp; union is now restor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gered Republic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Sumner led Radical Republicans in senate, Thaddeus Stevens led in H.O.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ohnson clashes with congres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rts when Johnson vetoes Freedmen’s Bureau b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ivil Rights Bill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ssed by congress (controlled by Republicans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ve blacks citizenship righ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uck at the Black Co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4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Tahoma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amendment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ssed by Congress in 1866, gave citizenship &amp; civil rights to African Americ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ublicans agreed southern states could not join union w/o ratifying 1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mendme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construction by the Sword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construction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vided the south into 5 military districts- commanded by union general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tes had to ratify 1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mendment &amp; allow former male slaves right to vote to be readmitt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5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Tahoma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amendment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ssed by congress in 1869, granted black men the right to vo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77- last federal arms removed from Southern politic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52880" y="5286240"/>
            <a:ext cx="1544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13:53:56Z</dcterms:created>
  <dc:creator>emily.johnson</dc:creator>
  <dc:description/>
  <dc:language>en-US</dc:language>
  <cp:lastModifiedBy>emily.johnson</cp:lastModifiedBy>
  <dcterms:modified xsi:type="dcterms:W3CDTF">2012-12-13T15:23:23Z</dcterms:modified>
  <cp:revision>5</cp:revision>
  <dc:subject/>
  <dc:title>The Ordeal of Reconstruction </dc:title>
</cp:coreProperties>
</file>